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0FB-DE99-4139-B8CE-835816BE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27B-5995-4B3F-BE98-610C5E0A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2001-D254-4C00-8C59-C5333D0E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C41-B240-4A14-B18C-E065AFE4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9459-E44B-41D0-8936-945CECBB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0CE6D-011D-468D-A0C3-570ADDCD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A3A6-6E9C-4DCD-A735-9DF8CDA7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5CFD-DC2A-4442-B71B-20A85926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5944-8D52-4B4E-A3E0-D6D4E405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AF5E-8A7C-41B8-8102-19228D00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1051-F712-4F5B-B8FC-96962F37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DE2-17F5-4291-80F4-981E03CB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A26A-2F6F-445A-84F4-78DB82AB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CC7E-4A92-453B-B8F8-28CC8215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1CAD-BFE8-48D4-8F32-9E0E80DD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BE8F-A0DD-4164-BD03-E6A545DD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924E-0658-4EFB-A23E-3C9B71B5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C361-DD62-408A-91A6-E8808A38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91C-8649-4ECA-A701-CE4B103C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F5E-0D6D-4739-9B92-DC568A0F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C15-94C0-449B-B3E4-ADE8727B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3E1-1D04-4353-B8C4-433FE116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610-E7A3-422E-9130-8A087A7C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308-2CCF-479F-959C-D3AEB7F4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6E3D-A13F-43B4-8504-7C3F2085EEA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AAAF-FCAC-405D-9B3F-2FDFC314AD9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DÉL-AFRIKAI KÖZTÁRSASÁG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Készítette:Barlai E.Cecíl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flag of south africa"/>
          <p:cNvPicPr/>
          <p:nvPr/>
        </p:nvPicPr>
        <p:blipFill>
          <a:blip r:embed="rId2"/>
          <a:stretch/>
        </p:blipFill>
        <p:spPr>
          <a:xfrm>
            <a:off x="2268360" y="2205000"/>
            <a:ext cx="4608720" cy="277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Kiutazó és beutazó forgalom főbb motivációinak megoszlá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628640"/>
          <a:ext cx="8207280" cy="3024360"/>
        </p:xfrm>
        <a:graphic>
          <a:graphicData uri="http://schemas.openxmlformats.org/drawingml/2006/table">
            <a:tbl>
              <a:tblPr/>
              <a:tblGrid>
                <a:gridCol w="1411200"/>
                <a:gridCol w="1101600"/>
                <a:gridCol w="1163880"/>
                <a:gridCol w="1101600"/>
                <a:gridCol w="1163520"/>
                <a:gridCol w="1101960"/>
                <a:gridCol w="116352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tíváció/év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i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i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i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ivatás turizmu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56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785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28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57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39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31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Üdülé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32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621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58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958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53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527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anulmányi ut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7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74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0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0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9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2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tutazó forgal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96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69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55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gyé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37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8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2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7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987640" y="4797360"/>
            <a:ext cx="3384720" cy="18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ontosabb szállodá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156360" y="1484280"/>
            <a:ext cx="259236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348000" y="1484280"/>
            <a:ext cx="2457360" cy="1657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84360" y="148428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684360" y="3573360"/>
            <a:ext cx="3240000" cy="2592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5148360" y="3573360"/>
            <a:ext cx="360504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ontosabb szállodá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ape Sun Inter-Contin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reakwater Lod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he Table Bay Hot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resident Hot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Holiday Inn Garden Court South Beac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he Gardens Protea Hot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irport Holiday In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he Rosebank Hot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andton Sun Inter-Contin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he Palace of the lost c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2992680" cy="431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zálláshelyek bevételei, kiadásai és kapacitásu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484280"/>
          <a:ext cx="8207280" cy="2571480"/>
        </p:xfrm>
        <a:graphic>
          <a:graphicData uri="http://schemas.openxmlformats.org/drawingml/2006/table">
            <a:tbl>
              <a:tblPr/>
              <a:tblGrid>
                <a:gridCol w="2233440"/>
                <a:gridCol w="1901160"/>
                <a:gridCol w="2111400"/>
                <a:gridCol w="1961280"/>
              </a:tblGrid>
              <a:tr h="340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zállás típu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ljes bevéte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illio ra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Összes kiadás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illio ra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iszta haszo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millio ran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zállo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9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p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dégháza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gyé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68360" y="4292640"/>
          <a:ext cx="8207280" cy="2198520"/>
        </p:xfrm>
        <a:graphic>
          <a:graphicData uri="http://schemas.openxmlformats.org/drawingml/2006/table">
            <a:tbl>
              <a:tblPr/>
              <a:tblGrid>
                <a:gridCol w="2232000"/>
                <a:gridCol w="1235160"/>
                <a:gridCol w="1671480"/>
                <a:gridCol w="1397160"/>
                <a:gridCol w="1671480"/>
              </a:tblGrid>
              <a:tr h="325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zálláshely típus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gya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érőhely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Ágya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érőhelyek szá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ote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36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6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1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mp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5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ndéghá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3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43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gyé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2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5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47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8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Fontosabb városok és nevezetességek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01800" y="1600200"/>
            <a:ext cx="3149640" cy="2171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5092560" y="1600200"/>
            <a:ext cx="3149640" cy="2171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167280" cy="2224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5076720" y="4149720"/>
            <a:ext cx="3178440" cy="227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etor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4176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XIX. sz. –i emlékműve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Pretoria Zo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Union Building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Voortrekker-emlékmű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Hősök csarnoka- kenotáf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Állami színház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64000" y="1341360"/>
            <a:ext cx="3337200" cy="2500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3335400" cy="250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okvár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örténelmi épüle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able-hegy-kilátóterasz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Groote Kerk templ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Jóreménység kastély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él-Afrikai Nemzeti Galé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Jóreménység fok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ristenbosch Nemzeti Pa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ruegel Nemzeti Par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897440" y="1600200"/>
            <a:ext cx="3540240" cy="2171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932360" y="4149720"/>
            <a:ext cx="3505320" cy="222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emzeti és vadas parko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Cape Peniscula Nemzeti Pa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West Coast Nemzeti Pa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Tsitsikamma Nemzeti Pa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Addo Elephant Nemzeti Pa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Golden Gate Highlands Nemzeti Pa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Natal Drakensberg Pa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Pilanes Nemzeti Pa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Madikwe Vadrezervát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Krugel Nemzeti Pa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Karoo Nemzeti Pa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Tembe Elephant Rezervát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164360" y="3860640"/>
            <a:ext cx="1635120" cy="2171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652760" cy="1944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7093080" y="1628640"/>
            <a:ext cx="1763640" cy="1944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4572000" y="4221000"/>
            <a:ext cx="2085840" cy="169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Magyarország és Dél- Afrika kapcsolat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gyüttműködési megállapodás,199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Kulturális, diplomáciai és gazdasági kapcsolatok fejleszté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lső diplomáciai képviselet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él-Afrika első nagyobb beruházás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egnagyobb kereskedelmi forgalo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180 millió USD tőkebefekteté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outh African Bewe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Anglo-American/Mond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3976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Sterk-Kinekor: multiplex mozi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651640" y="1700280"/>
            <a:ext cx="2016000" cy="18334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025360" cy="202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Magyarország és Dél- Afrika kapcsolat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AFS- nemzetközi diákszervez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agyarország turisztikai szépségnagyköve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ő import és export termék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dzőtábor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1967-Christian Bernar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első szívműtét elvégzé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a Nánd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1727280" cy="2087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084720" y="4076640"/>
            <a:ext cx="1727280" cy="2087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236000" y="1557360"/>
            <a:ext cx="1653840" cy="208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Általános adatok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59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Terület: 1.219.090 km</a:t>
            </a:r>
            <a:r>
              <a:rPr b="1" lang="hu-HU" sz="2000" spc="-1" strike="noStrike" baseline="30000">
                <a:solidFill>
                  <a:srgbClr val="ffffff"/>
                </a:solidFill>
                <a:latin typeface="Garamond"/>
              </a:rPr>
              <a:t>2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Főváros: Pretori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Népesség: 43.421.021 fő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Népcsoportok: zuluk (24%)angolok (6%) keverékek (11%)egyéb (41%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Népsűrűség: 33fő/km</a:t>
            </a:r>
            <a:r>
              <a:rPr b="1" lang="hu-HU" sz="2000" spc="-1" strike="noStrike" baseline="30000">
                <a:solidFill>
                  <a:srgbClr val="ffffff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Közigazgatási beosztás: 9 tartomán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Hivatalos pénz: rand (R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(1 EUR - 9.30 RAD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Hivatalos nyelv: afrikaans, angol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és 9 bantu nyelv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Vallás: független keresztény vallás (21%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hu-HU" sz="2000" spc="-1" strike="noStrike">
                <a:solidFill>
                  <a:srgbClr val="ffffff"/>
                </a:solidFill>
                <a:latin typeface="Garamond"/>
              </a:rPr>
              <a:t>holland református (16%), római katolikus (10%), anglikán (5%), más vallások (40%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3600360" cy="30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agykövetsége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6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Garamond"/>
              </a:rPr>
              <a:t>Magyar nagykövetség Dél-Afrikában: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959 Arcadia Street, Hatfield 0083,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Pretoria P.O.B. 27077, Sunnyside 013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el.: 00 27 12 43303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Fax: 00 27 12 432029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e-mail: huembprt@mweb.co.z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Garamond"/>
              </a:rPr>
              <a:t>Dél Afrikai nagykövetség Magyarországon</a:t>
            </a: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Cím: 1026 Budapest, Gárdonyi Géza utca 17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Telefon: +36 1 392 0999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Köszönöm a figyelmet!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268360" y="3068640"/>
            <a:ext cx="4953240" cy="283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Gazdaság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967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DP: 290,6 milliárd US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DP növekedési rátája: 2,5-3,5% év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főre jutó GDP: 6800 US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fláció: 1999-ben 30 év óta a legkisebb, 5,2%-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Írástudatlanság: 18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unkanélküliségi ráta: 32,6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ópai Unió &amp; Dél- Afrikai Unió kapcsola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Ásványkincse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azdasági célo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67280" y="2060640"/>
            <a:ext cx="2952720" cy="28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Dél - Afrika turizmus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2208240"/>
            <a:ext cx="4038480" cy="3279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932360" y="1413000"/>
            <a:ext cx="3183120" cy="2387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32360" y="4010040"/>
            <a:ext cx="3240000" cy="25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Főbb természet alkotta vonzerők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Drakensberg hegysé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Mpumalangai vízesé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Oudtshoorni Carlo-baralngredsz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Wonderwerk barla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Zuluföl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Garamond"/>
              </a:rPr>
              <a:t>Főbb folyó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Orang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Va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Limpop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003640" y="3573360"/>
            <a:ext cx="3346560" cy="25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b9efee"/>
                </a:solidFill>
                <a:latin typeface="Garamond"/>
              </a:rPr>
              <a:t>Főbb emberalkotta vonzerők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Garden Rou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Johannesbur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Gold Reef C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owe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Vadasparko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Durb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rany mérföld partv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ndiai negy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ea Wor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Garamond"/>
              </a:rPr>
              <a:t>Bloemfontei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 nők emlékműv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Naval hegy és a Franklin rezervát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Botanikus ker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2685960" cy="381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Beutazó és kiutazó forgalom évtizedenként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00000" y="1844640"/>
          <a:ext cx="8007120" cy="4190400"/>
        </p:xfrm>
        <a:graphic>
          <a:graphicData uri="http://schemas.openxmlformats.org/drawingml/2006/table">
            <a:tbl>
              <a:tblPr/>
              <a:tblGrid>
                <a:gridCol w="2395080"/>
                <a:gridCol w="1414080"/>
                <a:gridCol w="1414800"/>
                <a:gridCol w="1391400"/>
                <a:gridCol w="1391760"/>
              </a:tblGrid>
              <a:tr h="497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Turista forgalom (év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Beutazó forgal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iutazó forgal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ülföld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belföld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külföld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belföld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96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905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661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746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6596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9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4037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5523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906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58749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9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027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79848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6883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1176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99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02909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6130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10244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616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60005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88441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546612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383405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4531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54367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88626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Arial"/>
                        </a:rPr>
                        <a:t>544231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b9efee"/>
                </a:solidFill>
                <a:latin typeface="Garamond"/>
              </a:rPr>
              <a:t>Az európai küldőországok rangsorolása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600200"/>
          <a:ext cx="8229600" cy="4548240"/>
        </p:xfrm>
        <a:graphic>
          <a:graphicData uri="http://schemas.openxmlformats.org/drawingml/2006/table">
            <a:tbl>
              <a:tblPr/>
              <a:tblGrid>
                <a:gridCol w="1685880"/>
                <a:gridCol w="2065320"/>
                <a:gridCol w="984240"/>
                <a:gridCol w="1347840"/>
                <a:gridCol w="1106640"/>
                <a:gridCol w="10396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rszág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tívációk(200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ljes forgalo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Üzlet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akáció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z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gyé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U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630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21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0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Németorszá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11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73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Franciaorszá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03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6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Hollan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5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66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Olaszorszá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4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75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Belgiu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5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58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Sváj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62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5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28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Írorszá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8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9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.Svédorszá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2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Portugál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3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7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Ausztr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9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76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.Görögorszá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15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0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.Magyarorszá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Érkezések típusai kiutazó és beutazó forgalom eseté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987640" y="4437000"/>
            <a:ext cx="352764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457200" y="1600200"/>
          <a:ext cx="8218080" cy="2620440"/>
        </p:xfrm>
        <a:graphic>
          <a:graphicData uri="http://schemas.openxmlformats.org/drawingml/2006/table">
            <a:tbl>
              <a:tblPr/>
              <a:tblGrid>
                <a:gridCol w="1884600"/>
                <a:gridCol w="1055520"/>
                <a:gridCol w="1055880"/>
                <a:gridCol w="1055160"/>
                <a:gridCol w="1055880"/>
                <a:gridCol w="1055880"/>
                <a:gridCol w="1055160"/>
              </a:tblGrid>
              <a:tr h="374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Érkezés típu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i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i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i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eutaz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ülő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636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9608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530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849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05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804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on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8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3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özúti közlekedé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7016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1489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303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792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468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4870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zí közlekedé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5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70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80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9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gyé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9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915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13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635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23:33:32Z</dcterms:created>
  <dc:creator>lllllllll</dc:creator>
  <dc:description/>
  <dc:language>en-US</dc:language>
  <cp:lastModifiedBy>lllllllll</cp:lastModifiedBy>
  <dcterms:modified xsi:type="dcterms:W3CDTF">2006-04-12T22:14:30Z</dcterms:modified>
  <cp:revision>18</cp:revision>
  <dc:subject/>
  <dc:title>DÉL-AFRIKAI KÖZTÁRSASÁG</dc:title>
</cp:coreProperties>
</file>